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196-20CF-44BC-8061-9AA4EB1D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ED0-0E79-4D74-9B3C-EB22B23B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5D3D-C726-41AA-A23F-9B3F3EE1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1B0-065F-4EC0-BBAB-A2D166E6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3E5B-1A8B-434F-9814-5992BA4C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E55D-6572-4F56-94F0-B6631929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0BCC-A288-4226-B44A-21055BD5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3349-3CC3-4781-A29E-C4399660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298C-CCB9-40B3-A5FB-C6A492F8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3DC7-7C17-4981-A332-B8181119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C4C0-14E9-4B9C-B12B-61A49505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4D3-C2AC-40F8-893C-DD93F3AB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8C35-00F4-4C70-ABFD-19CBEF23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7011-E560-4E0A-928D-DCA3E693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09FD-E76B-4405-BFC9-B264BE5F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5BB2-13A0-4135-B8B5-B994BA1D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A97D-0AFD-4AC6-80CD-E92395C3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68F5-D3C7-4701-824A-FD948EED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ECA52-73B1-4DF0-A545-B4DBBAA8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B8A57-9AF4-4567-83EB-A00A75C7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43255-1B80-4840-8771-C1480411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CE97E-F1BD-469F-9DBA-ED032B7F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358-D7F9-4963-8E54-D94DFB65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E51F-9D59-4101-88F7-AF0FEE52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4ABA-715F-4CE7-829D-43B7A100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1D06C-6943-4483-93D4-4930CF08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927FA-5804-4F1B-A796-D98C5AAC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48494-2EB5-40FA-AC52-E4DDDCB8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89EC7-05EF-4E92-86F5-7604AFCB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A428-DA1F-42D0-95EE-7F8F459F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11137-5137-4DA2-94E0-7ADA09F6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760DA-C230-458A-AA82-6B824487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895E-7431-4990-859D-09ED4651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52A-0CFD-4093-B192-D7BA5F8F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4734C-6985-4681-A3B0-C45D9952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C618F-27AC-436D-BDA6-0C0F6130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55F6C-1BDC-44FE-A574-E7BA5FEA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3AF88-360B-42A9-BF39-53BA44CD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CBA41-B4E4-436A-9236-1C89262B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399DD-D8F4-4538-916D-201BD260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613B2-528C-4AF4-B80E-60632CB3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904ED-2890-41ED-B6E4-0AC6A38B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415E0-2CAF-44D7-9DAE-130FC670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06D25-3123-47E8-8E6A-3D770CB2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878-2597-4A80-BA76-10B3B0AB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1FBC0-9652-46B9-A9E9-382A7AE2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B94C3-7C54-4B5E-ACD1-B62F6E95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8B985-406B-4F2C-A0F3-C9FC4F84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8EF0C-A7E8-478C-86B8-2E5E16AC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D5064-2C51-4EDE-BB37-E6477ABE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71A11-0E31-41AC-8979-5D49D26D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17538-5A16-4275-9088-3F7E2EA6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9C2A9-21F4-4A6B-B406-47A2B7E2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D3945-4EA7-4E0E-BD41-B4FBA600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E72E6-B2A8-4B7F-8A41-872DA5D8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146-DD2A-45A2-95D4-13C076AA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E50D3-C30E-42E2-864F-56E93AFC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3F930-6A5A-4266-8BB8-4DEFFD9E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B68AB-57A7-4CB7-9370-A7625049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43324-F781-436F-BB86-F9FBD40A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A16EB-0290-4C06-86DD-86FC2085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98BD8-D56C-4965-BFC9-A51DB271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21D82-CB0D-45A1-B719-C3B23D92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ADD45-DB2F-437D-8333-1894BFA0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9B0EE-DF2D-45F3-8B6A-6B64B579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0F1F5-9BC3-4DFE-B1E2-D045EB26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467-09F9-4ED0-A501-8EB6B2B9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E3C3F-16CD-463E-A8E6-43CB8607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2DFA1-B8B8-4B57-8194-E2C609A1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A1A20-16F5-413B-9B43-F256B9AF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513D7-763E-4C18-B730-DCF5A145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8D120-72EB-4D25-9A2B-17EFC5D9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85E85-72BC-4356-B3B6-E6066B02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EFF0A-1085-41FF-AC3A-3DAC7E04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B721C-15B8-495E-B823-12320F39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8BBBB-C019-47CB-A048-FB0A8BD6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9FBA9-B7C0-49F9-8990-34C319EC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F87-50C0-447A-AD1C-86330D5A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151E6-E2AC-494E-B8DC-4C7E1864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FF910-3591-4EF0-A645-78E211E3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7E086-9AC2-4668-B147-B650F0BA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362AC-904F-48C9-8ABE-9D90E235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42676-8A0C-4225-8F47-44BD7DE1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1F0F2-00BC-4097-BB83-83939309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D9814-1A1E-4716-B0D4-7BE0E2F3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D4918-C21D-4A3C-B908-563E98DB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115A5-A621-4081-8073-3B0FC5A9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8A6AD-38BB-4CE4-9C78-78F28956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F43-2F7A-446C-AC0F-2C020E88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9178D-8DD5-44D8-ACD3-B56735F1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0F1C9-1331-4F9D-88A5-77E34196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B0C7C-129E-48AE-89A7-47790374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125FF-D60D-46C8-B0A2-4BBCE0BB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E7E06-4757-4A71-B390-F7FE5A4C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4BAE3-8714-4337-8723-3C93F920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89758-0BCB-4873-9232-3BEDECA8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9A3C-535B-4818-996F-DADA98FA17D6}" type="slidenum">
              <a:rPr b="1" lang="en-US" sz="1200" spc="-1" strike="noStrike">
                <a:solidFill>
                  <a:srgbClr val="afaf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6534-1294-4102-B7F7-0364CAE4D84E}" type="slidenum">
              <a:rPr b="1" lang="en-US" sz="1200" spc="-1" strike="noStrike">
                <a:solidFill>
                  <a:srgbClr val="afaf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EC34-D357-437A-9C7D-B5327ADAB7C8}" type="slidenum">
              <a:rPr b="1" lang="en-US" sz="1200" spc="-1" strike="noStrike">
                <a:solidFill>
                  <a:srgbClr val="afaf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A5AC-7B7F-4C31-828A-CD86C96E66E4}" type="slidenum">
              <a:rPr b="1" lang="en-US" sz="1200" spc="-1" strike="noStrike">
                <a:solidFill>
                  <a:srgbClr val="afaf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FD42-499E-40EB-8FF6-7FCC3AB975C2}" type="slidenum">
              <a:rPr b="1" lang="en-US" sz="1200" spc="-1" strike="noStrike">
                <a:solidFill>
                  <a:srgbClr val="afaf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098A-35DE-4A01-B3E3-F2BB9CE992CC}" type="slidenum">
              <a:rPr b="1" lang="en-US" sz="1200" spc="-1" strike="noStrike">
                <a:solidFill>
                  <a:srgbClr val="afaf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9D68-502B-4F9B-AF99-0684A4015AF9}" type="slidenum">
              <a:rPr b="1" lang="en-US" sz="1200" spc="-1" strike="noStrike">
                <a:solidFill>
                  <a:srgbClr val="afaf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d1282e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ECB4-55ED-4C22-9AD7-658EED4FB403}" type="slidenum">
              <a:rPr b="1" lang="en-US" sz="1200" spc="-1" strike="noStrike">
                <a:solidFill>
                  <a:srgbClr val="afaf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5.2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YR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Garamond"/>
              </a:rPr>
              <a:t>El presente progresivo/debe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 am ordering. (3pt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 estoy pidiendo.  (e-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Ángel y Antonio are serving.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los están sirvien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 am helping you. 4p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 estoy ayudándote/te estoy ayudand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8820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e are shaving ourselves. 4p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8820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8820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osotros estamos afeitándonos/nos estamos afeitan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u s/fam are getting up. 4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ú estás levantándote/te estás levantan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622591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y are reading. (3pts.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622591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622591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los están leyendo.  (y=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622591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at are 3 other verbs that take a ‘y’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622591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ír, creer, traer (What do they mean?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EBER &amp; INFINITIV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 ought to listen. (3 pt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 debo escucha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e ought to go.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Él debe i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u pl/fam ought to look for me. 4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Vosotros debéis buscarme/me debéis busc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 ought to go to bed. 4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 debo acostarme/me debo acost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ACH CORRECT WORD= 1PT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he is walking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la está andando/caminand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y ought to shower themselves. 4p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los deben ducharse/se deben duch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93388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u pl/form ought to learn them (the verbs). 4p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93388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93388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ds. deben aprenderlos/los deben aprend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y ought to leave.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los deben salir/irs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u s/fam ought to believe me. (4 pt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ú debes creerme/me debes cre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u pl/form ought to give me…. 4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ds. deben darme/me deben da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u s/fam ought to see it. (m.) 4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ú debes verlo/lo debes ve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e ought to finish….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osotros debemos terminar…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na y yo are talking.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osotros estamos hablan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Javier y tú are practicing.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Vosotros estáis practican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95464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livia y Ud. Are waking up.  4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95464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95464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ds. están despertándose/se están despertan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ugo is helping me. 4pt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Él está ayudándome/me está ayudan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upe and I are working. 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osotros estamos trabajando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102727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andma is writing me. 4p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2727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2727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la está escribiéndome/me está escribiend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74710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u s/fam are sleeping.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74710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74710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ú estás durmiendo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74710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pat yourself on the back if you got the o-u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5:32:25Z</dcterms:created>
  <dc:creator>Coffman, Kristie</dc:creator>
  <dc:description/>
  <dc:language>en-US</dc:language>
  <cp:lastModifiedBy>Prine, Stephanie</cp:lastModifiedBy>
  <dcterms:modified xsi:type="dcterms:W3CDTF">2012-11-09T20:21:56Z</dcterms:modified>
  <cp:revision>9</cp:revision>
  <dc:subject/>
  <dc:title>5.2 2nd yr</dc:title>
</cp:coreProperties>
</file>